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0C6F-D6EF-4702-BF0C-CA0C1B74F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AD4D-95B8-463C-BD3F-D00CC0AF0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83E7-D128-40A7-A566-74121221A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4245-A0CE-4A45-A261-6B3A5B7E0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B7A6-62D9-4D3B-BA51-4933503FA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7414-EE3F-4B71-8483-19DFA787E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66B2-60BE-4CBE-BF20-C31E36616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C924-2537-4BE4-B7A1-12FD48285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A27C-2D67-4E25-9E03-0677D20EA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0696-7E84-46E3-A7C5-9D960235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E34F-700E-481D-A251-FF52ADFF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2677-5984-4D0A-9177-305F7B1B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375371-E933-4830-BF6E-E883FEFB67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9080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ccession to the EU: what to expect? Polish experienc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5640" y="4138560"/>
            <a:ext cx="8305920" cy="5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a-IN" sz="2400" spc="-1" strike="noStrike">
                <a:solidFill>
                  <a:srgbClr val="ffffff"/>
                </a:solidFill>
                <a:latin typeface="Calibri"/>
              </a:rPr>
              <a:t>Zagreb, Hotel Westin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|</a:t>
            </a:r>
            <a:r>
              <a:rPr b="0" lang="ta-IN" sz="2400" spc="-1" strike="noStrike">
                <a:solidFill>
                  <a:srgbClr val="ffffff"/>
                </a:solidFill>
                <a:latin typeface="Calibri"/>
              </a:rPr>
              <a:t> 17-19 April 20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6" descr="logo.png"/>
          <p:cNvPicPr/>
          <p:nvPr/>
        </p:nvPicPr>
        <p:blipFill>
          <a:blip r:embed="rId1"/>
          <a:stretch/>
        </p:blipFill>
        <p:spPr>
          <a:xfrm>
            <a:off x="485640" y="171360"/>
            <a:ext cx="1849680" cy="2476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organizatori.png"/>
          <p:cNvPicPr/>
          <p:nvPr/>
        </p:nvPicPr>
        <p:blipFill>
          <a:blip r:embed="rId2"/>
          <a:stretch/>
        </p:blipFill>
        <p:spPr>
          <a:xfrm>
            <a:off x="3178080" y="5994360"/>
            <a:ext cx="2643120" cy="5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98720" y="274320"/>
            <a:ext cx="6688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chance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998720" y="1600200"/>
            <a:ext cx="668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247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3247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32477f"/>
                </a:solidFill>
                <a:latin typeface="Calibri"/>
              </a:rPr>
              <a:t>An impact on the process of defining of the destination  of  the European funds; participation in the working groups on the regional and country level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3247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32477f"/>
                </a:solidFill>
                <a:latin typeface="Calibri"/>
              </a:rPr>
              <a:t>An increase of the scale of activity; new opportunities in realisation of the organisational goal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3247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32477f"/>
                </a:solidFill>
                <a:latin typeface="Calibri"/>
              </a:rPr>
              <a:t>Professionalization of the processes, transparency, implementation and spread of the standards of the project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3247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32477f"/>
                </a:solidFill>
                <a:latin typeface="Calibri"/>
              </a:rPr>
              <a:t>Increase of the target groups of the CSO’s activiti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3247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32477f"/>
                </a:solidFill>
                <a:latin typeface="Calibri"/>
              </a:rPr>
              <a:t>Development of the environments that CSO’s are working in: experts, trainers, adviso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3247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3247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247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247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98720" y="274320"/>
            <a:ext cx="6688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The challeng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998720" y="1600200"/>
            <a:ext cx="668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247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247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32477f"/>
                </a:solidFill>
                <a:latin typeface="Calibri"/>
              </a:rPr>
              <a:t>Scale of UE funds – what can we do about i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247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32477f"/>
                </a:solidFill>
                <a:latin typeface="Calibri"/>
              </a:rPr>
              <a:t>Procedures and bureaucracy as a barri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247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32477f"/>
                </a:solidFill>
                <a:latin typeface="Calibri"/>
              </a:rPr>
              <a:t>System of implementation UE programs which enables an influence of CSO’s on decision making proc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247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32477f"/>
                </a:solidFill>
                <a:latin typeface="Calibri"/>
              </a:rPr>
              <a:t>Increasing expectations of benefice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98720" y="274320"/>
            <a:ext cx="6688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The trap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998720" y="1600200"/>
            <a:ext cx="668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247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32477f"/>
                </a:solidFill>
                <a:latin typeface="Calibri"/>
              </a:rPr>
              <a:t>Meritocracy vs. formalis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247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32477f"/>
                </a:solidFill>
                <a:latin typeface="Calibri"/>
              </a:rPr>
              <a:t>CSO’s activists vs. fund hun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247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32477f"/>
                </a:solidFill>
                <a:latin typeface="Calibri"/>
              </a:rPr>
              <a:t>Pressure of UE and local bureaucracy – bureaucratic skills supplanting competencies connected with organisational mi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247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32477f"/>
                </a:solidFill>
                <a:latin typeface="Calibri"/>
              </a:rPr>
              <a:t>Dependence on UE funds causes loss of competence in acting in another wa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247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247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8T14:50:11Z</dcterms:created>
  <dc:creator>Natalija Gojkovic</dc:creator>
  <dc:description/>
  <dc:language>en-US</dc:language>
  <cp:lastModifiedBy>Aida Bagic</cp:lastModifiedBy>
  <dcterms:modified xsi:type="dcterms:W3CDTF">2013-04-15T06:22:20Z</dcterms:modified>
  <cp:revision>24</cp:revision>
  <dc:subject/>
  <dc:title>Click to add title</dc:title>
</cp:coreProperties>
</file>